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B01-0936-4C22-BAE6-F46B13B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049-C780-4710-B602-1EDEAE03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12A-4C16-4706-916F-26BDED7A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CE9-5BF9-4834-929E-5146DA51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CD2-EF13-4866-B3B4-83167027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25F-F3CF-4796-BF6C-42B37C5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7AF-F3CA-49C2-AEC7-C7588EA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861-6475-47D3-8168-078585E1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DD6-1565-46BD-8202-CC400F5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6C1-7699-4545-B958-B0F536D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B7B-D0BE-4D16-94EF-3287515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859-41A6-4029-A8AB-9F07869C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5B4E-3D55-48EE-A5C3-D5EAEF63C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40000" y="691920"/>
            <a:ext cx="4546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3:22:11Z</dcterms:created>
  <dc:creator>Mariajose</dc:creator>
  <dc:description/>
  <dc:language>en-US</dc:language>
  <cp:lastModifiedBy>Mariajose</cp:lastModifiedBy>
  <dcterms:modified xsi:type="dcterms:W3CDTF">2009-01-21T03:28:18Z</dcterms:modified>
  <cp:revision>3</cp:revision>
  <dc:subject/>
  <dc:title>Diapositiva 1</dc:title>
</cp:coreProperties>
</file>