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05E-6CE7-4100-897E-678BFCED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F12-A009-4499-B1A3-922E884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AD0-E65C-4B9F-AD47-8A3C3F01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EF0-62F5-4796-AD90-A59A1ED7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78D-99F1-4807-BB75-2564A37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694-7232-476E-BE51-6FBE010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CC0-525E-461F-BFA1-3BE1ED61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8D1-5557-457C-AD31-3DF882A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4AC-1ADB-43AD-AA8B-267EAE46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2C-1464-4B01-AFA9-52E3922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A84-6390-48FF-A0BE-DFCE5D1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940-94FD-4178-8087-84CCB9D3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44B8-1054-4426-9058-BC99AD791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8T12:40:48Z</dcterms:modified>
  <cp:revision>344</cp:revision>
  <dc:subject/>
  <dc:title>Diapositiva 1</dc:title>
</cp:coreProperties>
</file>