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9473-78AA-403E-90AF-401F96087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0002-3669-4180-A597-F9BB8FDD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E2D0-A947-40BB-AA46-1BD5C9F70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25AC-D77A-460A-8C90-0A2249710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FFAF-E14D-4CAA-A2EE-327F26E2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668A-42F8-4BEC-B6E1-562C5F02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0F12-53D4-41E7-B75B-EDC4B14B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B735-40B7-47FB-AA41-64591774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19EC-E02B-403D-9E0D-6AB335C0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79C8-8B20-4886-A14D-37AE05B0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B977-4734-45F1-B9A7-136B8688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7A3C-43AC-40B1-8FF4-CD65F648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AD4E-4943-4694-93C3-7520E78A5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Mariajose</cp:lastModifiedBy>
  <dcterms:modified xsi:type="dcterms:W3CDTF">2010-04-16T21:57:52Z</dcterms:modified>
  <cp:revision>51</cp:revision>
  <dc:subject/>
  <dc:title>Texto</dc:title>
</cp:coreProperties>
</file>