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EC93-50D8-48F1-ADD7-F5E89F75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0C97-98D8-420A-BCFA-9A4AA4333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96EF-AC69-4E05-B389-176E5CE61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C63C-A79A-4A24-9AD0-39D952562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A01C-1101-496F-A0C7-FE07969A6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7FD1-0E98-4699-B4F6-E0D22274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C88B-0668-4E72-9E7A-CC611B69C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F3E2-6CD9-45B8-903D-BD2AA432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3526-86ED-406F-A4B3-67A8FA035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4E28-34CB-40BF-8C05-3623ECA9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DF65-DB43-4499-B723-6D00FC4E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1189-415B-4890-8604-C8C40230A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D22F7-B45D-4019-BEA2-BFFCF87857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067280" y="5405040"/>
            <a:ext cx="4860720" cy="5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000000"/>
                </a:solidFill>
                <a:latin typeface="Arial"/>
              </a:rPr>
              <a:t>Presentation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708360" y="5805360"/>
            <a:ext cx="5184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Your company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85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4-10T14:00:10Z</dcterms:modified>
  <cp:revision>660</cp:revision>
  <dc:subject/>
  <dc:title>Diapositiva 1</dc:title>
</cp:coreProperties>
</file>