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FB4-5C6A-4627-91A5-1ACB186E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967-62F3-49B9-B4CB-3B274338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026-BB39-4818-B725-536FB6B8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12A-48DB-464D-B2A8-36BCB21A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4E3-13B5-4792-A799-9FAC3BB0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4A5-2C4B-4FFC-83A5-6D6BCDEF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702-573E-43E1-81F2-81D36104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87C-9BBF-46BA-B661-362604BB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FBF-2297-404D-93EC-17150421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1CD-866F-4144-9454-28A34E63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1DE-CA2D-49C1-9DC7-A510A3DE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0B4-FF23-41B2-8E40-EE525FBF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E6CF-17CC-4654-9950-6421CE126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2276640"/>
            <a:ext cx="5472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13T18:39:03Z</dcterms:modified>
  <cp:revision>10</cp:revision>
  <dc:subject/>
  <dc:title>Diapositiva 1</dc:title>
</cp:coreProperties>
</file>