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35E-3E47-445E-BCC1-95767D6C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4CC-3F07-4196-839E-5185B122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178-EAFA-4A37-9B7D-5D532D02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725-C271-4DB6-8DB2-FB3D4584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625-7815-4049-A6A0-34C7B6B4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AEA-A317-4435-98FA-E034D993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301-A650-4AD0-9E91-21030522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C31-AD23-4A22-9600-F8A9F3C7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0D5-664C-4B7D-BE5C-CC6FA7EE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8ED-EF8A-433A-A158-A13087D4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428-7E7E-4474-A48A-E0EE06B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30A-1993-488E-8485-2CF6E0F7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4DF7-204A-4D95-9598-E6D7ED1A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640" y="907920"/>
            <a:ext cx="6048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0920" y="1773360"/>
            <a:ext cx="44960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760" y="286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4-28T16:56:08Z</dcterms:modified>
  <cp:revision>513</cp:revision>
  <dc:subject/>
  <dc:title>Diapositiva 1</dc:title>
</cp:coreProperties>
</file>