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F0E-A03F-42B6-8188-58914257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6D2F-BD83-4851-B10E-C33386CD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75D-2FB3-4E3B-B94F-FD166DE1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E73-20AF-4DB3-9241-B9688472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1E1-70BF-4C5F-B9E2-585CF78F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6AC-0006-4549-8CEF-FA7AD969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87EC-2A83-40D9-AB4E-E768AE09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5B7E-7B06-4EDE-A0C8-49AE7E67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F62-135E-4894-BF39-9E35064F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D21-5317-4E89-9215-3CCAC1CC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F48A-81E8-4D31-B1ED-8F2FB8F4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FA7-5778-492F-904A-4D41FC61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B275-5027-49FB-8BDD-936142EFD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2360" y="260280"/>
            <a:ext cx="8640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Mariajose</cp:lastModifiedBy>
  <dcterms:modified xsi:type="dcterms:W3CDTF">2010-02-12T20:27:39Z</dcterms:modified>
  <cp:revision>5</cp:revision>
  <dc:subject/>
  <dc:title>Diapositiva 1</dc:title>
</cp:coreProperties>
</file>