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789-EB21-4980-8C2E-593963CB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990-6015-4444-BB17-D0115026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291-FA55-46A5-9E63-F3366C75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94C-B1C2-4712-9C70-664DF4DE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B9F-52C1-47F1-BED2-04301BA0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1F8-6F31-40AD-8E5E-B959DB55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571-5B26-4CEA-A993-529B7F4D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B7C-F6EE-4D73-AC91-240E2775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340-76D7-49AA-8991-17A9A372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87F-C883-408E-9D1B-6F0A7969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184-9EE9-4801-A2B1-D75990FB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F88-1417-4355-98DC-439FEAD7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0A98-44F0-4DFF-AF70-369D2954E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fx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fx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343400"/>
            <a:ext cx="4724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86692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143000"/>
            <a:ext cx="6705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6461280"/>
            <a:ext cx="693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ef6f1"/>
                </a:solidFill>
                <a:latin typeface="Arial"/>
              </a:rPr>
              <a:t>Copyright 2008 </a:t>
            </a:r>
            <a:r>
              <a:rPr b="0" lang="en-US" sz="10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PresentationFx.com</a:t>
            </a:r>
            <a:r>
              <a:rPr b="0" lang="en-US" sz="1000" spc="-1" strike="noStrike" u="sng">
                <a:solidFill>
                  <a:srgbClr val="def6f1"/>
                </a:solidFill>
                <a:uFillTx/>
                <a:latin typeface="Arial"/>
              </a:rPr>
              <a:t> | Redistribution Prohibited | Image © 2008 Thomas Brian | This text section may be deleted for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143000"/>
            <a:ext cx="6705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6461280"/>
            <a:ext cx="693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ef6f1"/>
                </a:solidFill>
                <a:latin typeface="Arial"/>
              </a:rPr>
              <a:t>Copyright 2008 </a:t>
            </a:r>
            <a:r>
              <a:rPr b="0" lang="en-US" sz="10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PresentationFx.com</a:t>
            </a:r>
            <a:r>
              <a:rPr b="0" lang="en-US" sz="1000" spc="-1" strike="noStrike" u="sng">
                <a:solidFill>
                  <a:srgbClr val="def6f1"/>
                </a:solidFill>
                <a:uFillTx/>
                <a:latin typeface="Arial"/>
              </a:rPr>
              <a:t> | Redistribution Prohibited | Image © 2008 Thomas Brian | This text section may be deleted for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6:14:46Z</dcterms:created>
  <dc:creator>Presentationfx.com</dc:creator>
  <dc:description>Copyright 2008. Maynot be redistributed except by presentationfx.com. Will be enforced to the maximum extent under law.</dc:description>
  <cp:keywords>Design Ruler Architecture Building Calculate</cp:keywords>
  <dc:language>en-US</dc:language>
  <cp:lastModifiedBy> </cp:lastModifiedBy>
  <dcterms:modified xsi:type="dcterms:W3CDTF">2008-04-21T20:47:05Z</dcterms:modified>
  <cp:revision>22</cp:revision>
  <dc:subject>Architecture, Construction</dc:subject>
  <dc:title>Design</dc:title>
</cp:coreProperties>
</file>