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7B0-A829-46FA-8A38-BA939257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A4B4-7C01-4DBA-9CAB-F24EF695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51D0-A639-4C20-B393-06B0F8EA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134-2A7B-4A21-8719-A9824D16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E337-A674-4C5F-BD39-DE52CC49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678F-C980-45E3-ABA8-D1F7BD26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770E-5756-4C9C-9285-F67ABFE6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EA9E-B519-4EC4-AC59-73275430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1C0-4F3B-46FF-B39C-02520AA9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FBA-30BB-41F0-AB87-268CA2E1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AF54-F122-4D59-85CC-1A58FE45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B5C-782B-456C-9A8F-202A6CD7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4F2E-7D85-4162-B676-BFEFA018B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riajose</dc:creator>
  <dc:description/>
  <dc:language>en-US</dc:language>
  <cp:lastModifiedBy>Mariajose</cp:lastModifiedBy>
  <dcterms:modified xsi:type="dcterms:W3CDTF">2010-02-16T17:47:21Z</dcterms:modified>
  <cp:revision>7</cp:revision>
  <dc:subject/>
  <dc:title>Title</dc:title>
</cp:coreProperties>
</file>