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462-06B9-41F9-8E91-5A8AA419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E41-7945-4293-815F-64EF13B2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68F-7A39-4693-B525-5A293D97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9D3-B1E8-4C18-8E23-7F40188E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D9F-12CD-464D-8C5A-263FB3AC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47E-A454-4F8E-8574-BA3DA24B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11C-F80A-4F54-90A0-EBAA127D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D1C-256D-4672-9905-CF52406E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541-6F6A-46BB-98FC-691BC7E9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5A2-1B13-4244-8BBA-B2F547AE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878-F038-44DB-9141-F275F7A9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4F3-9902-4CF0-8CC9-9FE8CCC0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985-4388-4DDC-BDC3-5CA389361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640" y="2421000"/>
            <a:ext cx="54691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22T16:15:08Z</dcterms:modified>
  <cp:revision>410</cp:revision>
  <dc:subject/>
  <dc:title>Diapositiva 1</dc:title>
</cp:coreProperties>
</file>