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C1DB-901D-497D-B48B-D58DB816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5D95-36D9-44E0-AE04-A64B02A7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0700-41DA-42B3-93FC-4B2F9909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6C4-27DA-473E-B857-CD54FF00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3E6-DB66-427B-BF4D-F72EAA5A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6C7A-36AA-460C-B501-31501082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E2F4-E6A8-48B8-A937-D7829E75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91F9-B73D-4466-A606-4AAAAD95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A9F2-9563-4F0E-A00E-F58F1E9F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0BE-2837-43C3-9778-F1A1ECB4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6A26-66DB-43C1-B8D5-403F360F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01B-A294-44C9-AFED-AD9FF7AA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86AF-E54F-4B09-8095-F1A019647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46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>Mariajose</dc:creator>
  <dc:description/>
  <dc:language>en-US</dc:language>
  <cp:lastModifiedBy>Mariajose</cp:lastModifiedBy>
  <dcterms:modified xsi:type="dcterms:W3CDTF">2010-02-16T17:50:20Z</dcterms:modified>
  <cp:revision>8</cp:revision>
  <dc:subject/>
  <dc:title>Title</dc:title>
</cp:coreProperties>
</file>