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906-3010-497D-A25F-D5CFA9BD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A30-4FF4-4B33-8589-A67754C4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990-39EC-4602-B5BB-6C5B62CA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208-9FCD-4004-923A-A0176E81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9D1-4B93-433E-9A5B-8BD3C5DB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6D8-41CD-40C8-935C-51A540B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196-2DB9-4386-93C5-F128F43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651-D6E3-4448-AB9C-F146B99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71-D82F-489C-B649-854FA16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EB0-BED8-4533-AC97-80765B4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6E0-DB0A-46AA-AF56-F6B1C0D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E28-B0BD-435D-A612-1BA5906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758-FBC6-43DB-AD92-782E58823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8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6352"/>
                </a:solidFill>
                <a:latin typeface="Calibri"/>
              </a:rPr>
              <a:t>Name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4200"/>
            <a:ext cx="6400800" cy="66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6352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c6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c6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6352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Lorem ipsum dolor sit amet, consectetur adipisicing elit, sed do eiusmod tempor incididunt ut labore et dolore magna aliqua.</a:t>
            </a:r>
            <a:br>
              <a:rPr sz="3200"/>
            </a:b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352"/>
                </a:solidFill>
                <a:latin typeface="Calibri"/>
              </a:rPr>
              <a:t>Ut enim ad minim veniam, quis nostrud exercitation ullamco laboris nisi ut aliqu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6352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876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c6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6352"/>
                </a:solidFill>
                <a:latin typeface="Calibri"/>
              </a:rPr>
              <a:t>Lorem ipsum dolor sit amet, consectetur adipisicing elit, sed do eiusmod tempor incididunt ut lab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41876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c6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6352"/>
                </a:solidFill>
                <a:latin typeface="Calibri"/>
              </a:rPr>
              <a:t>Lorem ipsum dolor sit amet, consectetur adipisicing elit, sed do eiusmod tempor incididunt ut lab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15:45:43Z</dcterms:created>
  <dc:creator>Eric Vadeboncoeur</dc:creator>
  <dc:description/>
  <dc:language>en-US</dc:language>
  <cp:lastModifiedBy>Eric Vadeboncoeur</cp:lastModifiedBy>
  <dcterms:modified xsi:type="dcterms:W3CDTF">2013-08-01T15:57:44Z</dcterms:modified>
  <cp:revision>2</cp:revision>
  <dc:subject/>
  <dc:title>Name of Presentation</dc:title>
</cp:coreProperties>
</file>