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D39C-9787-43AD-8A99-C5579FA1F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46AD-0F99-48D3-93FD-78477F98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1808-8CA0-4AA0-A451-85231419A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806A-7C04-443F-A896-5FDB765AC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CAB9-1EE6-44CB-BC4B-D387CDEA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2CBB-E6D6-45B5-9BB5-2F68DC49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6D51-3CD5-4FB3-8270-9E5B6E79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43D3-40FF-4254-BEDB-70C2510B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1A2A-8305-4F06-843D-00C6A28A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751D-4745-4685-8350-AFEE024D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A6AB-B242-4E69-AFD9-225A8D07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3A5D-12D6-4556-828C-DE59E59B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9349-E2BA-4FFC-8097-EBDB4727E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6T17:27:37Z</dcterms:created>
  <dc:creator>Mariajose</dc:creator>
  <dc:description/>
  <dc:language>en-US</dc:language>
  <cp:lastModifiedBy>Mariajose</cp:lastModifiedBy>
  <dcterms:modified xsi:type="dcterms:W3CDTF">2010-08-06T17:28:01Z</dcterms:modified>
  <cp:revision>1</cp:revision>
  <dc:subject/>
  <dc:title>TITLE</dc:title>
</cp:coreProperties>
</file>