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31B-F5BE-4814-AD0F-20710A40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A66-6E61-49CD-828F-84F14E48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F80-D37F-4BBB-A6C3-A22E8443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4E6-2754-4477-8B73-62BB0B7D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B8C-CFA3-491B-B62F-512DF9E0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DE9-7D7F-4585-8712-EF62D38C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BD6-1A9D-4BBF-B255-30BB91D1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2F8-DF0C-49A1-ABE3-F64C25F3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77D-9BB3-4517-8D50-5236954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AEF-1945-41B5-AFA9-3279994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936-909F-4EF8-9858-93A55D1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3DC-E7E6-4F7A-8AF5-C52D86FB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9C3-C587-43B8-80F7-E9DE981F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385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3:22:11Z</dcterms:created>
  <dc:creator>Mariajose</dc:creator>
  <dc:description/>
  <dc:language>en-US</dc:language>
  <cp:lastModifiedBy>Mariajose</cp:lastModifiedBy>
  <dcterms:modified xsi:type="dcterms:W3CDTF">2009-01-21T03:24:34Z</dcterms:modified>
  <cp:revision>2</cp:revision>
  <dc:subject/>
  <dc:title>Diapositiva 1</dc:title>
</cp:coreProperties>
</file>