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31B-AB2A-498A-83BB-FD77301B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F5F-198E-41E3-873A-9F4EB0FB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CF6-5FD2-48DB-953A-87A75528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9F8-F86D-48D9-A2E7-AB3C5C06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5AF-FC38-42BB-B387-B53CD57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340-E262-4E1B-A70F-EE22AC48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336-E635-4B09-A3CF-B73B50E9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3EB-47FE-4D55-B26D-28A6D89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C45-7649-4476-BF18-080EF962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4321-25BC-47FA-A96C-45944C6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E8D-8931-4FED-8D86-3E49AB1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D8E-49DD-4B26-AF7F-EEDAA5E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BD3-0E99-4E32-AE01-3F7C369E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920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8T19:07:21Z</dcterms:modified>
  <cp:revision>19</cp:revision>
  <dc:subject/>
  <dc:title>TITLE</dc:title>
</cp:coreProperties>
</file>