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663-8561-4943-8D2F-FA15B2FC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F1C-2392-4117-9EA8-7F09DADD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CE0-7267-4A66-8D24-58B404D3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7B1-98DF-4B3E-8D23-008565EA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A6F-B04C-49F0-9A6D-D6977C9F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E6F-7DCF-4C1B-A17E-4004F3EA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84F1-1692-4D48-B33B-97BC6A65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028-1A7A-42F9-BAA3-4F9F1ABC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2E9-58F6-4541-85DE-54C4D7AE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65E-D980-454F-92B3-CE2BD160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331-FE5E-41F1-A013-8769E8CF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0A6-04BB-49B4-9BBE-7BE86885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7B1A-449C-4866-A4A7-72A2241D9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8:56:58Z</dcterms:created>
  <dc:creator>Mariajose</dc:creator>
  <dc:description/>
  <dc:language>en-US</dc:language>
  <cp:lastModifiedBy>Mariajose</cp:lastModifiedBy>
  <dcterms:modified xsi:type="dcterms:W3CDTF">2010-08-06T18:57:20Z</dcterms:modified>
  <cp:revision>1</cp:revision>
  <dc:subject/>
  <dc:title>Diapositiva 1</dc:title>
</cp:coreProperties>
</file>