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A79-AACF-499B-BE12-E7059C8D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466-3EA4-4440-B30B-44CF0F26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76A-9BA3-4BA4-A7DD-C58CFDFF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1B8-08ED-44C9-A59A-1384A368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B04-7CC3-4880-B238-E03B1C12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35D-2249-45C8-A1CC-668D4155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9F7-66A1-4FAA-BCB4-93054036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847-736C-4CC8-833F-12C6633D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455-D565-4C6B-8238-2524AF39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DB4-1230-4E0B-98C6-4BA01E80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E08-3799-4794-BF42-2F784219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A48-F7F9-4560-9AC1-2EAD2058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0036-663B-492A-923C-F90CEE8CF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6237360"/>
            <a:ext cx="6400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free-power-point-templat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52:00Z</dcterms:created>
  <dc:creator>Mariajose</dc:creator>
  <dc:description/>
  <dc:language>en-US</dc:language>
  <cp:lastModifiedBy>Mariajose</cp:lastModifiedBy>
  <dcterms:modified xsi:type="dcterms:W3CDTF">2008-10-01T02:02:38Z</dcterms:modified>
  <cp:revision>2</cp:revision>
  <dc:subject/>
  <dc:title>Title</dc:title>
</cp:coreProperties>
</file>