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B787-69B5-451A-A594-D67FDCC9A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D318-F248-400C-8AC3-9EA629C6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DC64-D0D7-4220-9050-600C2C36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A778-8D13-4FA2-A676-16C6B8EF1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A96B-C450-482D-B569-59428486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B450-5691-40FB-A1FC-D7395BD2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5932-955B-458E-8EDA-1D9975A8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F35E-BBDB-4E51-838B-8F31AA24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2E5D-0C5B-46BF-AAE6-3A8F72E6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F72E-F02F-47EF-8974-32A4C947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C073-9525-42DD-B4DA-B1D37E3E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DC10-A80B-4A39-B8E5-951F57A3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F3E0-DA91-4569-9A70-0C033F509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40000" y="3068280"/>
            <a:ext cx="6121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5400" spc="-1" strike="noStrike">
                <a:solidFill>
                  <a:srgbClr val="990000"/>
                </a:solidFill>
                <a:latin typeface="Arial"/>
              </a:rPr>
              <a:t>Presentation Tit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6-20T14:51:13Z</dcterms:modified>
  <cp:revision>633</cp:revision>
  <dc:subject/>
  <dc:title>Diapositiva 1</dc:title>
</cp:coreProperties>
</file>