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183-B660-47C2-A311-7B9D3D50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F61-268C-4B74-8799-5B991C3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CCC-BFB2-4A51-B705-F89CCAFC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F28-C440-4F39-A693-E1A9E9D5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E0C-7FEB-40FB-A264-31080A40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4EF-173C-46EF-897C-E321C58D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EA6-43B8-4271-A214-4F800CE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7FE-3CA2-4C62-80FD-CD066E0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696-7E12-465A-AA52-D053B956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FC3-99B5-4077-AFA9-29AF7EA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63B-7B12-4D86-A836-17FDA571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73F-35E2-45DA-85DA-E2FBF73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95A-B9F8-4A7E-9905-DB03ADC0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501300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595008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1-29T18:45:31Z</dcterms:modified>
  <cp:revision>748</cp:revision>
  <dc:subject/>
  <dc:title>Diapositiva 1</dc:title>
</cp:coreProperties>
</file>