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D80-AED3-446B-BEB7-D31D10EB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523-E821-4FEE-8823-DE2176F9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0AB-232A-4AE8-BAF1-DC53716F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712-01CC-433B-87F3-95C37E80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CEF-95D2-4122-BF06-F6DEDEB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6EB-1490-4975-9B47-7DBC30F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223-CF09-435F-BF8A-82E0747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B1A-E2CB-4D9F-98CE-C4D3A59C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32C-8F8D-4D5F-A4DA-E571D10E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06C-BC3E-4EE0-841E-2E4D13E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235-16EF-48B7-9358-424D5F9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690-9EC1-466B-B523-7C28632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F90-DAC0-4366-9B7D-D73049D4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26T14:32:09Z</dcterms:modified>
  <cp:revision>426</cp:revision>
  <dc:subject/>
  <dc:title>Diapositiva 1</dc:title>
</cp:coreProperties>
</file>