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99C-16C5-45BB-B819-4DBC8DF4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0487-42FC-4718-ADBB-DECAD48E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769-3436-45A3-A126-A7B4522C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1B8-468F-4B05-A5D3-6B90A1DF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84E-AA94-44B4-B926-A9063F96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981-3E19-4765-A21D-82056472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7B71-1614-4D5A-B803-DD4A83DD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082-915E-4256-ACC1-CCE7E34C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F637-1EB4-4A64-8DCE-64C2DF25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F4D-C4E5-4C8A-9D9A-1350682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A080-D569-479F-B5E5-8DA36D62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A3FE-2B14-4C86-A863-4CA097A4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B42-5768-4BA0-8786-6C90917C7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10-12T18:49:40Z</dcterms:modified>
  <cp:revision>214</cp:revision>
  <dc:subject/>
  <dc:title>Diapositiva 1</dc:title>
</cp:coreProperties>
</file>