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4BC-5C56-4B25-86BE-554DE801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A7F-1312-4D66-BC1B-92DDFE98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28F-6B6E-4D78-BAC0-C8C6BBB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F6B-499A-4CCD-9939-3322F9DE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45E-6628-4DCE-9B49-BCAC2767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37C-27DA-4880-A1AF-927AD32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215-D39E-4044-B083-9CBF974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2E1-69B6-405C-AD8F-D89E4C1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BBC-DD60-4147-94E0-2F53B2B8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517-693E-48B3-B251-2A286D18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95F-0E2F-46FF-BD3E-F9A3FC9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AC1-8878-4FBA-9EB3-6513614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D37-676A-45BA-B3B4-27C8ABDB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10-12T18:49:40Z</dcterms:modified>
  <cp:revision>214</cp:revision>
  <dc:subject/>
  <dc:title>Diapositiva 1</dc:title>
</cp:coreProperties>
</file>