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653-16BB-4E9C-B010-39E84A0C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7F0-BCEC-4027-836C-75E37F0E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3A3-1A5D-4CBC-B581-07375CDA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E9A-C30A-4A25-BAEF-FF404CE2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C9D-1905-4040-AEE8-E98346B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E04-85A9-4723-961C-85795A3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275-F9AA-44DF-80C0-EA23A3EE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A60-282F-4215-957A-3959A1C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7F4-BE52-41D4-AB24-37B6732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45B-1965-413E-9ECB-87665BC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FA1-02C4-46E8-BC46-73C8DFA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233-889F-4B71-BD10-27C72DD4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9CB-B616-4B68-8EDB-4B4EAA67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2360" y="260280"/>
            <a:ext cx="864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Mariajose</cp:lastModifiedBy>
  <dcterms:modified xsi:type="dcterms:W3CDTF">2010-02-12T20:27:39Z</dcterms:modified>
  <cp:revision>5</cp:revision>
  <dc:subject/>
  <dc:title>Diapositiva 1</dc:title>
</cp:coreProperties>
</file>