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137-7BD0-4362-9A29-9DD15E6D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F72-3582-45EA-837A-6B1B0A9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C39-F556-4889-8343-A3D62FC4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D8B-E4A1-41D5-8BF5-5EE25D70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D30-6D1F-4C83-B340-EC2CBCC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275-D4CD-42CE-8F83-7F11FF6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8B2-D199-4ECC-9F12-83F177A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BF7-9E0B-4474-A4AC-EEDE574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087-BE89-48BF-9E08-874CB02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BE9-A23F-419C-87C1-2BEE52C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C1C-EBA6-4DE7-B887-0D89C8F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7AB-C414-4A45-A81A-4371E01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391-9B65-4CAD-A836-A432C0B3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907920"/>
            <a:ext cx="6048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1773360"/>
            <a:ext cx="44960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28T16:56:08Z</dcterms:modified>
  <cp:revision>513</cp:revision>
  <dc:subject/>
  <dc:title>Diapositiva 1</dc:title>
</cp:coreProperties>
</file>